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62F5D4-3583-4909-8933-4B2C29D12DD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F1C28D-7DF1-411E-B19C-799C9E62D88F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C01DB8-59F3-4B0D-B9C1-A07EAFFBBF57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68CB25-7BA9-44C6-8142-209053AECC6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5AE72F-E857-4757-834F-8ABD044F9CF1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C04714-D397-4D1F-AD35-1337E9929F0E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1C00F9-75A6-4213-AA04-FF4D56D7C4C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043E98-98FB-4100-BEE7-E26FDBC81CB8}" type="slidenum">
              <a:rPr b="0" lang="it-IT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22B-C712-4048-A311-2C417CF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675-35F0-4DE9-8EC2-78788B1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1F3-7A97-4364-874D-DC31640C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105-E6A7-48F0-BA44-4099CA28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7F3-5296-4837-9303-B1C36540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8FD7-85AF-405D-A28D-DD933A19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CED0-A20B-4ADD-BEB8-4EA1BD5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0932-48B1-4444-BE5D-840E1134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CEE3-7626-4755-BE75-FA2A77BF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DCB-CE96-4656-9267-27B83FD3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3580-2737-468A-85CA-B65907D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839-CC18-4181-8CC4-5AD4442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1DB-23D7-4B58-9D1B-09990D4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791-E80D-415B-A105-D1E63B9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CFD9-AB60-41C4-AEB0-F1082EA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4EFD-CCDD-418F-9820-261BF50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E86-E9A6-402E-B284-8FA8DF12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C76-108E-485C-A758-203361ED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A78-5DEF-4659-826F-330CEE8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F31-965D-48F0-9BCD-95C30D1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FCD-65D8-41AC-9B8B-BB2264C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DBE-4661-46C2-A2F0-E71255A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586-F270-472E-B06B-F52CC9BD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756-13F5-46F6-B810-1626B34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DFD7-1D0F-49DD-9F8C-0760B79CE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7D3-613C-49FB-86FE-19C536AD0FF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posting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A basic problem !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326160" y="1916280"/>
            <a:ext cx="7807680" cy="478800"/>
            <a:chOff x="326160" y="1916280"/>
            <a:chExt cx="7807680" cy="478800"/>
          </a:xfrm>
        </p:grpSpPr>
        <p:sp>
          <p:nvSpPr>
            <p:cNvPr id="188" name="Rectangle 21"/>
            <p:cNvSpPr/>
            <p:nvPr/>
          </p:nvSpPr>
          <p:spPr>
            <a:xfrm>
              <a:off x="774720" y="1963800"/>
              <a:ext cx="735912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326160" y="1916280"/>
              <a:ext cx="4485960" cy="459720"/>
              <a:chOff x="326160" y="1916280"/>
              <a:chExt cx="4485960" cy="459720"/>
            </a:xfrm>
          </p:grpSpPr>
          <p:sp>
            <p:nvSpPr>
              <p:cNvPr id="190" name="Text Box 23"/>
              <p:cNvSpPr/>
              <p:nvPr/>
            </p:nvSpPr>
            <p:spPr>
              <a:xfrm>
                <a:off x="894600" y="1976400"/>
                <a:ext cx="391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, Battle, Car, Cold, 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Text Box 24"/>
              <p:cNvSpPr/>
              <p:nvPr/>
            </p:nvSpPr>
            <p:spPr>
              <a:xfrm>
                <a:off x="326160" y="191628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grpSp>
        <p:nvGrpSpPr>
          <p:cNvPr id="192" name="Group 20"/>
          <p:cNvGrpSpPr/>
          <p:nvPr/>
        </p:nvGrpSpPr>
        <p:grpSpPr>
          <a:xfrm>
            <a:off x="511200" y="4721400"/>
            <a:ext cx="7828920" cy="459720"/>
            <a:chOff x="511200" y="4721400"/>
            <a:chExt cx="7828920" cy="459720"/>
          </a:xfrm>
        </p:grpSpPr>
        <p:sp>
          <p:nvSpPr>
            <p:cNvPr id="193" name="Rectangle 21"/>
            <p:cNvSpPr/>
            <p:nvPr/>
          </p:nvSpPr>
          <p:spPr>
            <a:xfrm>
              <a:off x="980640" y="4726080"/>
              <a:ext cx="7359480" cy="43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94" name="Group 22"/>
            <p:cNvGrpSpPr/>
            <p:nvPr/>
          </p:nvGrpSpPr>
          <p:grpSpPr>
            <a:xfrm>
              <a:off x="511200" y="4721400"/>
              <a:ext cx="4828320" cy="459720"/>
              <a:chOff x="511200" y="4721400"/>
              <a:chExt cx="4828320" cy="459720"/>
            </a:xfrm>
          </p:grpSpPr>
          <p:sp>
            <p:nvSpPr>
              <p:cNvPr id="195" name="Text Box 23"/>
              <p:cNvSpPr/>
              <p:nvPr/>
            </p:nvSpPr>
            <p:spPr>
              <a:xfrm>
                <a:off x="1222200" y="4738680"/>
                <a:ext cx="411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10000  100000  100  1000  100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6" name="Text Box 24"/>
              <p:cNvSpPr/>
              <p:nvPr/>
            </p:nvSpPr>
            <p:spPr>
              <a:xfrm>
                <a:off x="511200" y="4721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197" name="Text Box 50"/>
          <p:cNvSpPr/>
          <p:nvPr/>
        </p:nvSpPr>
        <p:spPr>
          <a:xfrm>
            <a:off x="250920" y="261144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Array of n string pointers to strings of total length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(n log m) bits = 32 n bi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depends on the number of 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000000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it is independent of string length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541800" y="4221000"/>
            <a:ext cx="7808040" cy="479520"/>
            <a:chOff x="541800" y="4221000"/>
            <a:chExt cx="7808040" cy="479520"/>
          </a:xfrm>
        </p:grpSpPr>
        <p:sp>
          <p:nvSpPr>
            <p:cNvPr id="199" name="Rectangle 21"/>
            <p:cNvSpPr/>
            <p:nvPr/>
          </p:nvSpPr>
          <p:spPr>
            <a:xfrm>
              <a:off x="990360" y="4268880"/>
              <a:ext cx="73594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00" name="Group 22"/>
            <p:cNvGrpSpPr/>
            <p:nvPr/>
          </p:nvGrpSpPr>
          <p:grpSpPr>
            <a:xfrm>
              <a:off x="541800" y="4221000"/>
              <a:ext cx="4921920" cy="459720"/>
              <a:chOff x="541800" y="4221000"/>
              <a:chExt cx="4921920" cy="459720"/>
            </a:xfrm>
          </p:grpSpPr>
          <p:sp>
            <p:nvSpPr>
              <p:cNvPr id="201" name="Text Box 23"/>
              <p:cNvSpPr/>
              <p:nvPr/>
            </p:nvSpPr>
            <p:spPr>
              <a:xfrm>
                <a:off x="1165320" y="4281480"/>
                <a:ext cx="429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baco  Battle     Car   Cold    Cod ....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2" name="Text Box 24"/>
              <p:cNvSpPr/>
              <p:nvPr/>
            </p:nvSpPr>
            <p:spPr>
              <a:xfrm>
                <a:off x="541800" y="42210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cc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03" name="Rettangolo 1"/>
          <p:cNvSpPr/>
          <p:nvPr/>
        </p:nvSpPr>
        <p:spPr>
          <a:xfrm>
            <a:off x="4215240" y="5219640"/>
            <a:ext cx="41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0033"/>
                </a:solidFill>
                <a:latin typeface="Lucida Sans"/>
              </a:rPr>
              <a:t>Spaces are introduced for simplic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99"/>
                </a:solidFill>
                <a:latin typeface="Lucida Sans"/>
              </a:rPr>
              <a:t>Rank/Selec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206360" y="3149640"/>
            <a:ext cx="61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187280" y="31640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25840" y="3102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93560" y="4356000"/>
            <a:ext cx="80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Rank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ber of b in B[1,i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990033"/>
              </a:buClr>
              <a:buSzPct val="6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Select</a:t>
            </a:r>
            <a:r>
              <a:rPr b="0" lang="it-IT" sz="2400" spc="-1" strike="noStrike" baseline="-25000">
                <a:solidFill>
                  <a:srgbClr val="990033"/>
                </a:solidFill>
                <a:latin typeface="Lucida Sans"/>
              </a:rPr>
              <a:t>b</a:t>
            </a:r>
            <a:r>
              <a:rPr b="0" lang="it-IT" sz="2400" spc="-1" strike="noStrike">
                <a:solidFill>
                  <a:srgbClr val="990033"/>
                </a:solidFill>
                <a:latin typeface="Lucida Sans"/>
              </a:rPr>
              <a:t>(i)</a:t>
            </a:r>
            <a:r>
              <a:rPr b="0" lang="it-IT" sz="24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ition of the i-th b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Line 8"/>
          <p:cNvSpPr/>
          <p:nvPr/>
        </p:nvSpPr>
        <p:spPr>
          <a:xfrm flipH="1" flipV="1">
            <a:off x="2168280" y="3517920"/>
            <a:ext cx="14292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313000" y="3840480"/>
            <a:ext cx="175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6)  =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484360" y="2874960"/>
            <a:ext cx="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2411280" y="255060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6600"/>
                </a:solidFill>
                <a:latin typeface="Comic Sans MS"/>
              </a:rPr>
              <a:t>(3)  = 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7195680" y="4029120"/>
            <a:ext cx="1650960" cy="934560"/>
            <a:chOff x="7195680" y="4029120"/>
            <a:chExt cx="1650960" cy="934560"/>
          </a:xfrm>
        </p:grpSpPr>
        <p:sp>
          <p:nvSpPr>
            <p:cNvPr id="214" name="Text Box 13"/>
            <p:cNvSpPr/>
            <p:nvPr/>
          </p:nvSpPr>
          <p:spPr>
            <a:xfrm>
              <a:off x="7195680" y="402912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Lucida Sans"/>
                </a:rPr>
                <a:t>n  = #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AutoShape 14"/>
            <p:cNvSpPr/>
            <p:nvPr/>
          </p:nvSpPr>
          <p:spPr>
            <a:xfrm>
              <a:off x="7236000" y="4029120"/>
              <a:ext cx="1610640" cy="934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AutoShape 37"/>
          <p:cNvSpPr/>
          <p:nvPr/>
        </p:nvSpPr>
        <p:spPr>
          <a:xfrm>
            <a:off x="79200" y="5500800"/>
            <a:ext cx="8893440" cy="13287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wo approaches: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akes |B| + o(|B|) bits of space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60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2) Aims at achieving n log(m/n) bit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Rettangolo 1"/>
          <p:cNvSpPr/>
          <p:nvPr/>
        </p:nvSpPr>
        <p:spPr>
          <a:xfrm>
            <a:off x="530280" y="17017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ndex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bit vector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ossibly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Bit-Vector Index: |B| + o(|B|)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7853400" y="44280"/>
            <a:ext cx="1248120" cy="703800"/>
            <a:chOff x="7853400" y="44280"/>
            <a:chExt cx="1248120" cy="703800"/>
          </a:xfrm>
        </p:grpSpPr>
        <p:sp>
          <p:nvSpPr>
            <p:cNvPr id="220" name="Text Box 4"/>
            <p:cNvSpPr/>
            <p:nvPr/>
          </p:nvSpPr>
          <p:spPr>
            <a:xfrm>
              <a:off x="7909920" y="44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7853400" y="44280"/>
              <a:ext cx="124812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2" name="Text Box 6"/>
          <p:cNvSpPr/>
          <p:nvPr/>
        </p:nvSpPr>
        <p:spPr>
          <a:xfrm>
            <a:off x="611280" y="1773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Lucida Sans"/>
              </a:rPr>
              <a:t>Goal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 is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ead-onl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and the additional index takes o(m) bit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900000" y="2406600"/>
            <a:ext cx="7993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826920" y="242100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 1111100010110101 0101010111000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405360" y="23828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71640" y="2924280"/>
            <a:ext cx="2641680" cy="58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3710160" y="2884320"/>
            <a:ext cx="2504880" cy="1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407280" y="2874960"/>
            <a:ext cx="2232000" cy="7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926720" y="29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3393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813280" y="29178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16"/>
          <p:cNvSpPr/>
          <p:nvPr/>
        </p:nvSpPr>
        <p:spPr>
          <a:xfrm flipV="1">
            <a:off x="2631960" y="3212640"/>
            <a:ext cx="79236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88880" y="3500280"/>
            <a:ext cx="2110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absolute) 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544680" y="4703760"/>
            <a:ext cx="83484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Z = poly(log m) and z=(1/2) log m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+ (m/Z) log m + (m/z) log Z + o(m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062720" indent="-212400">
              <a:lnSpc>
                <a:spcPct val="120000"/>
              </a:lnSpc>
              <a:spcBef>
                <a:spcPts val="476"/>
              </a:spcBef>
              <a:buClr>
                <a:srgbClr val="cc33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990033"/>
                </a:solidFill>
                <a:latin typeface="Tahoma"/>
              </a:rPr>
              <a:t>+ O(m loglog m / log m)  = o(m) bits</a:t>
            </a:r>
            <a:endParaRPr b="0" lang="en-US" sz="19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k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0840" indent="-2656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erm o(m) is crucial in practice, B is untouched (not compress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7236000" y="3429000"/>
            <a:ext cx="1584000" cy="2016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265880" y="3419640"/>
          <a:ext cx="158436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406440"/>
                <a:gridCol w="5284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7" name="Group 42"/>
          <p:cNvGrpSpPr/>
          <p:nvPr/>
        </p:nvGrpSpPr>
        <p:grpSpPr>
          <a:xfrm>
            <a:off x="7121160" y="3119400"/>
            <a:ext cx="1501200" cy="307080"/>
            <a:chOff x="7121160" y="3119400"/>
            <a:chExt cx="1501200" cy="307080"/>
          </a:xfrm>
        </p:grpSpPr>
        <p:sp>
          <p:nvSpPr>
            <p:cNvPr id="238" name="Text Box 43"/>
            <p:cNvSpPr/>
            <p:nvPr/>
          </p:nvSpPr>
          <p:spPr>
            <a:xfrm>
              <a:off x="7121160" y="3119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Text Box 44"/>
            <p:cNvSpPr/>
            <p:nvPr/>
          </p:nvSpPr>
          <p:spPr>
            <a:xfrm>
              <a:off x="7701120" y="3119400"/>
              <a:ext cx="48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Text Box 45"/>
            <p:cNvSpPr/>
            <p:nvPr/>
          </p:nvSpPr>
          <p:spPr>
            <a:xfrm>
              <a:off x="8223840" y="3119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90033"/>
                  </a:solidFill>
                  <a:latin typeface="Lucida Sans"/>
                </a:rPr>
                <a:t>#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1" name="Group 50"/>
          <p:cNvGrpSpPr/>
          <p:nvPr/>
        </p:nvGrpSpPr>
        <p:grpSpPr>
          <a:xfrm>
            <a:off x="2887200" y="3432240"/>
            <a:ext cx="3260880" cy="1576440"/>
            <a:chOff x="2887200" y="3432240"/>
            <a:chExt cx="3260880" cy="1576440"/>
          </a:xfrm>
        </p:grpSpPr>
        <p:sp>
          <p:nvSpPr>
            <p:cNvPr id="242" name="Text Box 51"/>
            <p:cNvSpPr/>
            <p:nvPr/>
          </p:nvSpPr>
          <p:spPr>
            <a:xfrm>
              <a:off x="4003200" y="3719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3" name="Group 52"/>
            <p:cNvGrpSpPr/>
            <p:nvPr/>
          </p:nvGrpSpPr>
          <p:grpSpPr>
            <a:xfrm>
              <a:off x="2887200" y="3432240"/>
              <a:ext cx="3260880" cy="1576440"/>
              <a:chOff x="2887200" y="3432240"/>
              <a:chExt cx="3260880" cy="1576440"/>
            </a:xfrm>
          </p:grpSpPr>
          <p:sp>
            <p:nvSpPr>
              <p:cNvPr id="244" name="Rectangle 53"/>
              <p:cNvSpPr/>
              <p:nvPr/>
            </p:nvSpPr>
            <p:spPr>
              <a:xfrm>
                <a:off x="3698640" y="3700800"/>
                <a:ext cx="647280" cy="824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>
                <a:off x="4424400" y="3700800"/>
                <a:ext cx="512280" cy="9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>
                <a:off x="4960800" y="3699000"/>
                <a:ext cx="593280" cy="730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>
                <a:off x="5643360" y="3700800"/>
                <a:ext cx="504720" cy="7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57"/>
              <p:cNvSpPr/>
              <p:nvPr/>
            </p:nvSpPr>
            <p:spPr>
              <a:xfrm flipH="1" flipV="1">
                <a:off x="4345920" y="3840480"/>
                <a:ext cx="21564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9" name="Text Box 58"/>
              <p:cNvSpPr/>
              <p:nvPr/>
            </p:nvSpPr>
            <p:spPr>
              <a:xfrm>
                <a:off x="2887200" y="4221360"/>
                <a:ext cx="28522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(bucket-relative) Rank</a:t>
                </a:r>
                <a:r>
                  <a:rPr b="0" lang="it-IT" sz="2000" spc="-1" strike="noStrike" baseline="-25000">
                    <a:solidFill>
                      <a:srgbClr val="000000"/>
                    </a:solidFill>
                    <a:latin typeface="Lucida San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0" name="Text Box 59"/>
              <p:cNvSpPr/>
              <p:nvPr/>
            </p:nvSpPr>
            <p:spPr>
              <a:xfrm>
                <a:off x="4362840" y="3432240"/>
                <a:ext cx="155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5c37fb"/>
                    </a:solidFill>
                    <a:latin typeface="Lucida Sans"/>
                  </a:rPr>
                  <a:t>4         5          8         </a:t>
                </a:r>
                <a:endParaRPr b="0" lang="en-US" sz="12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251" name="Rectangle 60"/>
          <p:cNvSpPr/>
          <p:nvPr/>
        </p:nvSpPr>
        <p:spPr>
          <a:xfrm>
            <a:off x="5003640" y="2276640"/>
            <a:ext cx="64008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Rectangle 61"/>
          <p:cNvSpPr/>
          <p:nvPr/>
        </p:nvSpPr>
        <p:spPr>
          <a:xfrm>
            <a:off x="7164360" y="4365720"/>
            <a:ext cx="1800360" cy="57600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3" name="Group 62"/>
          <p:cNvGrpSpPr/>
          <p:nvPr/>
        </p:nvGrpSpPr>
        <p:grpSpPr>
          <a:xfrm>
            <a:off x="5075280" y="2060640"/>
            <a:ext cx="853200" cy="430200"/>
            <a:chOff x="5075280" y="2060640"/>
            <a:chExt cx="853200" cy="430200"/>
          </a:xfrm>
        </p:grpSpPr>
        <p:sp>
          <p:nvSpPr>
            <p:cNvPr id="254" name="AutoShape 63"/>
            <p:cNvSpPr/>
            <p:nvPr/>
          </p:nvSpPr>
          <p:spPr>
            <a:xfrm>
              <a:off x="5075280" y="21319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Text Box 64"/>
            <p:cNvSpPr/>
            <p:nvPr/>
          </p:nvSpPr>
          <p:spPr>
            <a:xfrm>
              <a:off x="5293440" y="2060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Lucida Sans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6" name="Line 16"/>
          <p:cNvSpPr/>
          <p:nvPr/>
        </p:nvSpPr>
        <p:spPr>
          <a:xfrm flipV="1">
            <a:off x="2651040" y="3107880"/>
            <a:ext cx="3144960" cy="47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99"/>
                </a:solidFill>
                <a:latin typeface="Lucida Sans"/>
              </a:rPr>
              <a:t>The Select operation</a:t>
            </a:r>
            <a:endParaRPr b="0" lang="en-US" sz="3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7740720" y="189000"/>
            <a:ext cx="1222560" cy="703800"/>
            <a:chOff x="7740720" y="189000"/>
            <a:chExt cx="1222560" cy="703800"/>
          </a:xfrm>
        </p:grpSpPr>
        <p:sp>
          <p:nvSpPr>
            <p:cNvPr id="260" name="Text Box 5"/>
            <p:cNvSpPr/>
            <p:nvPr/>
          </p:nvSpPr>
          <p:spPr>
            <a:xfrm>
              <a:off x="7784280" y="18900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m = |B|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Lucida Sans"/>
                </a:rPr>
                <a:t>n  = #1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AutoShape 6"/>
            <p:cNvSpPr/>
            <p:nvPr/>
          </p:nvSpPr>
          <p:spPr>
            <a:xfrm>
              <a:off x="7740720" y="189000"/>
              <a:ext cx="1222560" cy="64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62" name="Rectangle 7"/>
          <p:cNvSpPr/>
          <p:nvPr/>
        </p:nvSpPr>
        <p:spPr>
          <a:xfrm>
            <a:off x="917640" y="1685880"/>
            <a:ext cx="775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00000" y="1693800"/>
            <a:ext cx="88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0010100101010101111111000001101010101010111001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537120" y="1638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971640" y="2203560"/>
            <a:ext cx="2736720" cy="68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3833640" y="2212920"/>
            <a:ext cx="2106720" cy="46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054080" y="2395440"/>
            <a:ext cx="47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Comic Sans MS"/>
              </a:rPr>
              <a:t>size r is variable until the subarray includes k 1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395280" y="2995560"/>
            <a:ext cx="813744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Spar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f r &gt;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we store explicitly the position of the k 1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Dense cas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k ≤ r ≤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recurse...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 One level is enough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... still need a table of size o(m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</a:rPr>
              <a:t>Setting k ≈ polylog 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xtra space is </a:t>
            </a:r>
            <a:r>
              <a:rPr b="0" lang="it-IT" sz="2000" spc="-1" strike="noStrike">
                <a:solidFill>
                  <a:srgbClr val="990033"/>
                </a:solidFill>
                <a:latin typeface="Tahoma"/>
              </a:rPr>
              <a:t>+ o(m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and B is not touched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 time is O(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4140360" y="5373720"/>
            <a:ext cx="5003640" cy="14842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here exists a Bit-Vector Index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ing o(m)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extr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nd constant time for Rank/Selec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B is needed and read-onl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6012000" y="2205000"/>
            <a:ext cx="2305080" cy="5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429840" y="49402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Via Elias-Fano </a:t>
            </a:r>
            <a:r>
              <a:rPr b="0" lang="it-IT" sz="3600" spc="-1" strike="noStrike">
                <a:solidFill>
                  <a:srgbClr val="000099"/>
                </a:solidFill>
                <a:latin typeface="Lucida Sans"/>
              </a:rPr>
              <a:t>(B is not needed)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449440" y="2979720"/>
            <a:ext cx="6100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Recall that by setting w = log (m/n) and z = log n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20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Space = n log (m/n) bits +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573732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108000" y="2673360"/>
            <a:ext cx="1430280" cy="223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3"/>
          <a:stretch/>
        </p:blipFill>
        <p:spPr>
          <a:xfrm>
            <a:off x="2521080" y="4572000"/>
            <a:ext cx="2950920" cy="37296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6"/>
          <p:cNvGrpSpPr/>
          <p:nvPr/>
        </p:nvGrpSpPr>
        <p:grpSpPr>
          <a:xfrm>
            <a:off x="2484360" y="4984920"/>
            <a:ext cx="3024360" cy="576000"/>
            <a:chOff x="2484360" y="4984920"/>
            <a:chExt cx="3024360" cy="576000"/>
          </a:xfrm>
        </p:grpSpPr>
        <p:sp>
          <p:nvSpPr>
            <p:cNvPr id="278" name="Text Box 17"/>
            <p:cNvSpPr/>
            <p:nvPr/>
          </p:nvSpPr>
          <p:spPr>
            <a:xfrm>
              <a:off x="3240360" y="49849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79" name="Picture 19" descr=""/>
            <p:cNvPicPr/>
            <p:nvPr/>
          </p:nvPicPr>
          <p:blipFill>
            <a:blip r:embed="rId4"/>
            <a:stretch/>
          </p:blipFill>
          <p:spPr>
            <a:xfrm>
              <a:off x="2484360" y="52005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Line 21"/>
            <p:cNvSpPr/>
            <p:nvPr/>
          </p:nvSpPr>
          <p:spPr>
            <a:xfrm>
              <a:off x="3421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22"/>
            <p:cNvSpPr/>
            <p:nvPr/>
          </p:nvSpPr>
          <p:spPr>
            <a:xfrm>
              <a:off x="3852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23"/>
            <p:cNvSpPr/>
            <p:nvPr/>
          </p:nvSpPr>
          <p:spPr>
            <a:xfrm>
              <a:off x="4030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24"/>
            <p:cNvSpPr/>
            <p:nvPr/>
          </p:nvSpPr>
          <p:spPr>
            <a:xfrm>
              <a:off x="421308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450072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46785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>
              <a:off x="5160960" y="50562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7" name="Text Box 9"/>
          <p:cNvSpPr/>
          <p:nvPr/>
        </p:nvSpPr>
        <p:spPr>
          <a:xfrm>
            <a:off x="1619280" y="6380280"/>
            <a:ext cx="752616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n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ＭＳ Ｐゴシック"/>
              </a:rPr>
              <a:t>Needs binary search over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1547640" y="5908680"/>
            <a:ext cx="7561440" cy="440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i) on B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uses L and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+o(n)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CasellaDiTesto 4"/>
          <p:cNvSpPr/>
          <p:nvPr/>
        </p:nvSpPr>
        <p:spPr>
          <a:xfrm>
            <a:off x="5863320" y="4303800"/>
            <a:ext cx="2789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Build Selec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n 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 we need extra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|H| + o(|H|)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= 2n + o(n) bits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Freccia giù 3"/>
          <p:cNvSpPr/>
          <p:nvPr/>
        </p:nvSpPr>
        <p:spPr>
          <a:xfrm rot="3957600">
            <a:off x="1541880" y="1911960"/>
            <a:ext cx="668160" cy="86364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Freccia giù 24"/>
          <p:cNvSpPr/>
          <p:nvPr/>
        </p:nvSpPr>
        <p:spPr>
          <a:xfrm rot="18644400">
            <a:off x="1717560" y="4454280"/>
            <a:ext cx="669960" cy="86364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f you wish to play with Rank and Sel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46880" cy="57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2"/>
          <a:srcRect l="0" t="17637" r="0" b="0"/>
          <a:stretch/>
        </p:blipFill>
        <p:spPr>
          <a:xfrm>
            <a:off x="468360" y="2565360"/>
            <a:ext cx="451656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764400" cy="32846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1"/>
          <p:cNvSpPr/>
          <p:nvPr/>
        </p:nvSpPr>
        <p:spPr>
          <a:xfrm>
            <a:off x="4140360" y="3429000"/>
            <a:ext cx="5003640" cy="21607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/10 + n log (m/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nk in 0.4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c, Select in &lt; 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Comic Sans MS"/>
                <a:ea typeface="ＭＳ Ｐゴシック"/>
              </a:rPr>
              <a:t>v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32n bits of explicit pointer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lta en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81880" cy="3531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3340800" y="167652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1   1    2     7   20  14 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5805360"/>
            <a:ext cx="8424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n you compress the resulting integers w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-length prefix-free codes, as follow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Variable-byt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sh to g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very fas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(de)comp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byte-alig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binary representation of an integ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0s to front, to get a multiple-of-7 number of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m groups of 7-bits ea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end to the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group the bit 0, and to the other groups the bit 1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(taggi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v=2</a:t>
            </a:r>
            <a:r>
              <a:rPr b="0" lang="en-US" sz="2400" spc="-1" strike="noStrike" baseline="30000">
                <a:solidFill>
                  <a:srgbClr val="00a000"/>
                </a:solidFill>
                <a:latin typeface="Lucida Sans"/>
              </a:rPr>
              <a:t>14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+1 </a:t>
            </a:r>
            <a:r>
              <a:rPr b="0" lang="en-US" sz="2400" spc="-1" strike="noStrike">
                <a:solidFill>
                  <a:srgbClr val="00a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a000"/>
                </a:solidFill>
                <a:latin typeface="Lucida Sans"/>
              </a:rPr>
              <a:t>binary(v)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= 10000000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99"/>
                </a:solidFill>
                <a:latin typeface="Lucida Sans"/>
              </a:rPr>
              <a:t>000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0  </a:t>
            </a:r>
            <a:r>
              <a:rPr b="0" lang="en-US" sz="2400" spc="-1" strike="noStrike">
                <a:solidFill>
                  <a:srgbClr val="a50021"/>
                </a:solidFill>
                <a:latin typeface="Lucida San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0000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We waste 1 bit per byte, and avg 4 for the first by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ut it is a prefix code, and encodes also the value 0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85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T-nibble</a:t>
            </a:r>
            <a:r>
              <a:rPr b="0" lang="it-IT" sz="2000" spc="-1" strike="noStrike">
                <a:solidFill>
                  <a:srgbClr val="cc0000"/>
                </a:solidFill>
                <a:latin typeface="Comic Sans MS"/>
              </a:rPr>
              <a:t>: We could design this code over t-bits, not just t=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ForDelta 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800" y="33822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1" name="Group 42"/>
          <p:cNvGrpSpPr/>
          <p:nvPr/>
        </p:nvGrpSpPr>
        <p:grpSpPr>
          <a:xfrm>
            <a:off x="396720" y="1714680"/>
            <a:ext cx="8204760" cy="2896560"/>
            <a:chOff x="396720" y="1714680"/>
            <a:chExt cx="8204760" cy="2896560"/>
          </a:xfrm>
        </p:grpSpPr>
        <p:sp>
          <p:nvSpPr>
            <p:cNvPr id="102" name="AutoShape 22"/>
            <p:cNvSpPr/>
            <p:nvPr/>
          </p:nvSpPr>
          <p:spPr>
            <a:xfrm rot="16200000">
              <a:off x="3624120" y="515160"/>
              <a:ext cx="609480" cy="685836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78560 h 6858360"/>
                <a:gd name="textAreaBottom" fmla="*/ 6679800 h 685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8"/>
                  </a:lnTo>
                  <a:cubicBezTo>
                    <a:pt x="10800" y="9878"/>
                    <a:pt x="5400" y="10778"/>
                    <a:pt x="0" y="10778"/>
                  </a:cubicBezTo>
                  <a:cubicBezTo>
                    <a:pt x="5400" y="10778"/>
                    <a:pt x="10800" y="11678"/>
                    <a:pt x="10800" y="125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15667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21002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2633400" y="310680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23396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31669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37004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476712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>
              <a:off x="53006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583416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367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743436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7967880" y="310680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49968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1033200" y="310680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900840" y="310680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Rectangle 70"/>
            <p:cNvSpPr/>
            <p:nvPr/>
          </p:nvSpPr>
          <p:spPr>
            <a:xfrm>
              <a:off x="15667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Rectangle 71"/>
            <p:cNvSpPr/>
            <p:nvPr/>
          </p:nvSpPr>
          <p:spPr>
            <a:xfrm>
              <a:off x="21002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Rectangle 72"/>
            <p:cNvSpPr/>
            <p:nvPr/>
          </p:nvSpPr>
          <p:spPr>
            <a:xfrm>
              <a:off x="2633400" y="2496960"/>
              <a:ext cx="5331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Rectangle 73"/>
            <p:cNvSpPr/>
            <p:nvPr/>
          </p:nvSpPr>
          <p:spPr>
            <a:xfrm>
              <a:off x="423396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31669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" name="Rectangle 75"/>
            <p:cNvSpPr/>
            <p:nvPr/>
          </p:nvSpPr>
          <p:spPr>
            <a:xfrm>
              <a:off x="37004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" name="Rectangle 76"/>
            <p:cNvSpPr/>
            <p:nvPr/>
          </p:nvSpPr>
          <p:spPr>
            <a:xfrm>
              <a:off x="476712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53006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5834160" y="2496960"/>
              <a:ext cx="533160" cy="4568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6367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49968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1033200" y="2496960"/>
              <a:ext cx="533160" cy="4568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900840" y="2496960"/>
              <a:ext cx="53316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1043280" y="4249800"/>
              <a:ext cx="50954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Lucida Sans"/>
                  <a:ea typeface="SimSun"/>
                </a:rPr>
                <a:t>a block of 128 numbers = 256 bits = 32 byt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86"/>
            <p:cNvSpPr/>
            <p:nvPr/>
          </p:nvSpPr>
          <p:spPr>
            <a:xfrm flipH="1">
              <a:off x="11095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92"/>
            <p:cNvSpPr/>
            <p:nvPr/>
          </p:nvSpPr>
          <p:spPr>
            <a:xfrm flipH="1">
              <a:off x="5910120" y="3335400"/>
              <a:ext cx="30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97"/>
            <p:cNvSpPr/>
            <p:nvPr/>
          </p:nvSpPr>
          <p:spPr>
            <a:xfrm>
              <a:off x="7429680" y="213372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Rettangolo 36"/>
            <p:cNvSpPr/>
            <p:nvPr/>
          </p:nvSpPr>
          <p:spPr>
            <a:xfrm>
              <a:off x="396720" y="1714680"/>
              <a:ext cx="8204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Use b (e.g. 2) bits to encode 128 numbers or cre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Lucida Sans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6" name="Rettangolo 38"/>
          <p:cNvSpPr/>
          <p:nvPr/>
        </p:nvSpPr>
        <p:spPr>
          <a:xfrm>
            <a:off x="123480" y="5300640"/>
            <a:ext cx="4912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ncode exceptions with value 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2</a:t>
            </a:r>
            <a:r>
              <a:rPr b="1" lang="it-IT" sz="2000" spc="-1" strike="noStrike" baseline="30000">
                <a:solidFill>
                  <a:srgbClr val="ff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ttangolo 39"/>
          <p:cNvSpPr/>
          <p:nvPr/>
        </p:nvSpPr>
        <p:spPr>
          <a:xfrm>
            <a:off x="136080" y="5872320"/>
            <a:ext cx="6208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hoose b to encode 90% values, or trade-off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waste more bits, 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more excep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ttangolo 37"/>
          <p:cNvSpPr/>
          <p:nvPr/>
        </p:nvSpPr>
        <p:spPr>
          <a:xfrm>
            <a:off x="184320" y="4772160"/>
            <a:ext cx="616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ranslate data: [base, base + 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[0,2</a:t>
            </a:r>
            <a:r>
              <a:rPr b="0" lang="it-IT" sz="2000" spc="-1" strike="noStrike" baseline="30000">
                <a:solidFill>
                  <a:srgbClr val="000000"/>
                </a:solidFill>
                <a:latin typeface="Lucida Sans"/>
              </a:rPr>
              <a:t>b</a:t>
            </a: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-2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6215040" y="4214880"/>
            <a:ext cx="29289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0629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&gt; 0 and Binary length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9 represented as 000</a:t>
            </a:r>
            <a:r>
              <a:rPr b="0" lang="en-US" sz="2800" spc="-1" strike="noStrike">
                <a:solidFill>
                  <a:srgbClr val="00a000"/>
                </a:solidFill>
                <a:latin typeface="Lucida Sans"/>
              </a:rPr>
              <a:t>100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code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f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 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1 bit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(ie. factor of 2 from optima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133720" y="1066680"/>
          <a:ext cx="4122720" cy="27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12272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2577960" y="25653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-1    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7640" y="5805360"/>
            <a:ext cx="68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timal for Pr(x) = 1/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t is a prefix-free encoding…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the following sequence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ded integers, reconstruct the original sequence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0001000001100110000011101100111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2490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363384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442908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7020000" y="3674880"/>
            <a:ext cx="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39032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90340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08240" y="491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439600" y="4843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230600" y="484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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3106800"/>
            <a:ext cx="81342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coding to reduce the length of the first fie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ful 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sized integ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e.g., 19 represented as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00101</a:t>
            </a:r>
            <a:r>
              <a:rPr b="0" lang="en-US" sz="2400" spc="-1" strike="noStrike">
                <a:solidFill>
                  <a:srgbClr val="333399"/>
                </a:solidFill>
                <a:latin typeface="Lucida Sans"/>
              </a:rPr>
              <a:t>10011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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ding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takes about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(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log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Lucida Sans"/>
              </a:rPr>
              <a:t>2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x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)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+ 2 bi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2071800" y="1025640"/>
          <a:ext cx="42465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025640"/>
                    <a:ext cx="42465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5"/>
          <p:cNvSpPr/>
          <p:nvPr/>
        </p:nvSpPr>
        <p:spPr>
          <a:xfrm>
            <a:off x="1094040" y="6093000"/>
            <a:ext cx="653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ptimal for Pr(x) = 1/2x(log 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and i.i.d integ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321440" y="256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Binary lengt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50560" y="407664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 = 3, w=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Lucida Sans"/>
              </a:rPr>
              <a:t>Elias-Fan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268360" y="2781360"/>
            <a:ext cx="67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If w = log (m/n) and z = log n, where m = |B| and n = #1 the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L  takes  n w = n log (m/n)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buClr>
                <a:srgbClr val="cc3300"/>
              </a:buClr>
              <a:buSzPct val="6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cc3300"/>
                </a:solidFill>
                <a:latin typeface="Comic Sans MS"/>
              </a:rPr>
              <a:t>H takes n 1s + n 0s = 2n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736960" cy="86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302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3"/>
          <p:cNvGrpSpPr/>
          <p:nvPr/>
        </p:nvGrpSpPr>
        <p:grpSpPr>
          <a:xfrm>
            <a:off x="1835280" y="4365720"/>
            <a:ext cx="3598200" cy="517320"/>
            <a:chOff x="1835280" y="4365720"/>
            <a:chExt cx="3598200" cy="517320"/>
          </a:xfrm>
        </p:grpSpPr>
        <p:pic>
          <p:nvPicPr>
            <p:cNvPr id="169" name="Picture 14" descr=""/>
            <p:cNvPicPr/>
            <p:nvPr/>
          </p:nvPicPr>
          <p:blipFill>
            <a:blip r:embed="rId3"/>
            <a:stretch/>
          </p:blipFill>
          <p:spPr>
            <a:xfrm>
              <a:off x="2482560" y="4510080"/>
              <a:ext cx="29509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15"/>
            <p:cNvSpPr/>
            <p:nvPr/>
          </p:nvSpPr>
          <p:spPr>
            <a:xfrm rot="5400000">
              <a:off x="1907280" y="4293360"/>
              <a:ext cx="431640" cy="576000"/>
            </a:xfrm>
            <a:custGeom>
              <a:avLst/>
              <a:gdLst>
                <a:gd name="textAreaLeft" fmla="*/ 0 w 431640"/>
                <a:gd name="textAreaRight" fmla="*/ 369720 w 431640"/>
                <a:gd name="textAreaTop" fmla="*/ 46656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56" y="0"/>
                  </a:moveTo>
                  <a:lnTo>
                    <a:pt x="11911" y="7200"/>
                  </a:lnTo>
                  <a:lnTo>
                    <a:pt x="14997" y="7200"/>
                  </a:lnTo>
                  <a:lnTo>
                    <a:pt x="14997" y="17497"/>
                  </a:lnTo>
                  <a:lnTo>
                    <a:pt x="0" y="17497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75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1547640" y="5157720"/>
            <a:ext cx="3024360" cy="576000"/>
            <a:chOff x="1547640" y="5157720"/>
            <a:chExt cx="3024360" cy="576000"/>
          </a:xfrm>
        </p:grpSpPr>
        <p:sp>
          <p:nvSpPr>
            <p:cNvPr id="172" name="Text Box 17"/>
            <p:cNvSpPr/>
            <p:nvPr/>
          </p:nvSpPr>
          <p:spPr>
            <a:xfrm>
              <a:off x="2303640" y="515772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0      1     2  3   4   5     6       7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73" name="Picture 19" descr=""/>
            <p:cNvPicPr/>
            <p:nvPr/>
          </p:nvPicPr>
          <p:blipFill>
            <a:blip r:embed="rId4"/>
            <a:stretch/>
          </p:blipFill>
          <p:spPr>
            <a:xfrm>
              <a:off x="1547640" y="5373360"/>
              <a:ext cx="3024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21"/>
            <p:cNvSpPr/>
            <p:nvPr/>
          </p:nvSpPr>
          <p:spPr>
            <a:xfrm>
              <a:off x="2484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2916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3093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327636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356400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37418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4224240" y="52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1" name="Text Box 32"/>
          <p:cNvSpPr/>
          <p:nvPr/>
        </p:nvSpPr>
        <p:spPr>
          <a:xfrm>
            <a:off x="112320" y="53402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Lucida Sans"/>
              </a:rPr>
              <a:t>In unar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CasellaDiTesto 4"/>
          <p:cNvSpPr/>
          <p:nvPr/>
        </p:nvSpPr>
        <p:spPr>
          <a:xfrm>
            <a:off x="5121000" y="5229360"/>
            <a:ext cx="234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elect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on H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44600" y="6129360"/>
            <a:ext cx="7867440" cy="745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ow to get the i-th number ?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ake the i-th group of w bits in L and then represent the value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(H,i) – i) in z b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Ran</a:t>
            </a: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k and Select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data structur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Utente di Microsoft Office</cp:lastModifiedBy>
  <cp:lastPrinted>2009-04-22T19:24:48Z</cp:lastPrinted>
  <dcterms:modified xsi:type="dcterms:W3CDTF">2016-10-19T06:37:26Z</dcterms:modified>
  <cp:revision>1213</cp:revision>
  <dc:subject/>
  <dc:title>Web Algorithmics</dc:title>
</cp:coreProperties>
</file>